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E503-1190-41CA-B379-3FE2CA496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B263-4405-48AD-9171-4A3315079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E752-5407-458D-82C0-27B472F2E0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DA53-1946-43E7-91EF-752D6F4E54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832C-611D-4EC1-989C-1B8FEF215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E08D-EF0D-47A8-84B0-8F19CD730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7E6A-66F0-4EC1-A010-2335B8F17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4E06-0355-4CA0-B2FA-771A6FAD2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18AC-10A4-4298-982A-7AD47C277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46F4-F6AF-4428-A32B-F8889F6F5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A061-D314-41C6-8603-09E4CA27A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DD20-7C7F-480E-A770-DEEB1A543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914B03-B33F-4C8F-A02A-376B9E3C7FC0}" type="slidenum">
              <a:rPr b="0" lang="it-IT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6660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200" spc="-1" strike="noStrike">
                <a:solidFill>
                  <a:srgbClr val="a40000"/>
                </a:solidFill>
                <a:latin typeface="Arial"/>
                <a:ea typeface="Arial"/>
              </a:rPr>
              <a:t>IL CONTRATTO DI COMPRAVEND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3880" y="16002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" action="ppaction://hlinksldjump"/>
              </a:rPr>
              <a:t>Le aziende commercia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2" action="ppaction://hlinksldjump"/>
              </a:rPr>
              <a:t>Aspetti giuridici della compravend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3" action="ppaction://hlinksldjump"/>
              </a:rPr>
              <a:t>Obblighi per il venditore e il comprat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4" action="ppaction://hlinksldjump"/>
              </a:rPr>
              <a:t>Il contratto di compravend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5" action="ppaction://hlinksldjump"/>
              </a:rPr>
              <a:t>Le tratt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6" action="ppaction://hlinksldjump"/>
              </a:rPr>
              <a:t>La stipulazione del contrat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7" action="ppaction://hlinksldjump"/>
              </a:rPr>
              <a:t>L’esecuzione del contrat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8" action="ppaction://hlinksldjump"/>
              </a:rPr>
              <a:t>Gli elementi del contrat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9" action="ppaction://hlinksldjump"/>
              </a:rPr>
              <a:t>Il tempo di consegna della me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0" action="ppaction://hlinksldjump"/>
              </a:rPr>
              <a:t>Il luogo di consegna della mer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1" action="ppaction://hlinksldjump"/>
              </a:rPr>
              <a:t>Il trasporto tramite vett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2" action="ppaction://hlinksldjump"/>
              </a:rPr>
              <a:t>L’imballaggio e la ta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3" action="ppaction://hlinksldjump"/>
              </a:rPr>
              <a:t>Gli imballaggi e la tutela dell’ambi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4" action="ppaction://hlinksldjump"/>
              </a:rPr>
              <a:t>Le clausole di pagamento: tempo e lu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c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 u="sng">
                <a:solidFill>
                  <a:srgbClr val="2009bc"/>
                </a:solidFill>
                <a:uFillTx/>
                <a:latin typeface="Arial"/>
                <a:ea typeface="Arial"/>
                <a:hlinkClick r:id="rId15" action="ppaction://hlinksldjump"/>
              </a:rPr>
              <a:t>Le modalità di pagame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533520"/>
            <a:ext cx="914400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Gilda Ricciard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724280" y="2057400"/>
            <a:ext cx="35816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874800" y="5875200"/>
            <a:ext cx="323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yright © 2011 Pearson Italia S.p.A.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Tutti i diritti riservati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46" name="Immagine 6" descr="LOGOParamond.BMP"/>
          <p:cNvPicPr/>
          <p:nvPr/>
        </p:nvPicPr>
        <p:blipFill>
          <a:blip r:embed="rId16"/>
          <a:stretch/>
        </p:blipFill>
        <p:spPr>
          <a:xfrm>
            <a:off x="7529400" y="5227560"/>
            <a:ext cx="633600" cy="11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17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Organization Chart 2"/>
          <p:cNvGrpSpPr/>
          <p:nvPr/>
        </p:nvGrpSpPr>
        <p:grpSpPr>
          <a:xfrm>
            <a:off x="484200" y="1143000"/>
            <a:ext cx="8074800" cy="1066320"/>
            <a:chOff x="484200" y="1143000"/>
            <a:chExt cx="8074800" cy="1066320"/>
          </a:xfrm>
        </p:grpSpPr>
        <p:cxnSp>
          <p:nvCxnSpPr>
            <p:cNvPr id="140" name="_s58372"/>
            <p:cNvCxnSpPr>
              <a:stCxn id="141" idx="0"/>
              <a:endCxn id="142" idx="3"/>
            </p:cNvCxnSpPr>
            <p:nvPr/>
          </p:nvCxnSpPr>
          <p:spPr>
            <a:xfrm flipV="1" rot="16200000">
              <a:off x="5544720" y="520560"/>
              <a:ext cx="213840" cy="23108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43" name="_s58373"/>
            <p:cNvCxnSpPr>
              <a:stCxn id="144" idx="0"/>
              <a:endCxn id="142" idx="3"/>
            </p:cNvCxnSpPr>
            <p:nvPr/>
          </p:nvCxnSpPr>
          <p:spPr>
            <a:xfrm flipH="1" flipV="1" rot="5400000">
              <a:off x="3282480" y="569520"/>
              <a:ext cx="213840" cy="221292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42" name="_s58374"/>
            <p:cNvSpPr/>
            <p:nvPr/>
          </p:nvSpPr>
          <p:spPr>
            <a:xfrm>
              <a:off x="2741040" y="1143000"/>
              <a:ext cx="3552120" cy="426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cc99">
                    <a:alpha val="40000"/>
                  </a:srgbClr>
                </a:gs>
                <a:gs pos="100000">
                  <a:srgbClr val="e8e6fe"/>
                </a:gs>
              </a:gsLst>
              <a:lin ang="5400000"/>
            </a:gra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it-IT" sz="2300" spc="-1" strike="noStrike">
                  <a:solidFill>
                    <a:srgbClr val="3333cc"/>
                  </a:solidFill>
                  <a:latin typeface="Arial"/>
                </a:rPr>
                <a:t>ELEMENTI</a:t>
              </a:r>
              <a:endParaRPr b="0" lang="en-US" sz="23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144" name="_s58375"/>
            <p:cNvSpPr/>
            <p:nvPr/>
          </p:nvSpPr>
          <p:spPr>
            <a:xfrm>
              <a:off x="484200" y="1782720"/>
              <a:ext cx="3552120" cy="426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cc">
                    <a:alpha val="40000"/>
                  </a:srgbClr>
                </a:gs>
                <a:gs pos="100000">
                  <a:srgbClr val="e8e6fe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it-IT" sz="2700" spc="-1" strike="noStrike">
                  <a:solidFill>
                    <a:srgbClr val="2009bc"/>
                  </a:solidFill>
                  <a:latin typeface="Arial"/>
                </a:rPr>
                <a:t>FISSI</a:t>
              </a:r>
              <a:endParaRPr b="0" lang="en-US" sz="27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141" name="_s58376"/>
            <p:cNvSpPr/>
            <p:nvPr/>
          </p:nvSpPr>
          <p:spPr>
            <a:xfrm>
              <a:off x="5006880" y="1782720"/>
              <a:ext cx="3552120" cy="4266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cc">
                    <a:alpha val="40000"/>
                  </a:srgbClr>
                </a:gs>
                <a:gs pos="100000">
                  <a:srgbClr val="e8e6fe"/>
                </a:gs>
              </a:gsLst>
              <a:lin ang="5400000"/>
            </a:gra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it-IT" sz="2700" spc="-1" strike="noStrike">
                  <a:solidFill>
                    <a:srgbClr val="2009bc"/>
                  </a:solidFill>
                  <a:latin typeface="Arial"/>
                </a:rPr>
                <a:t>ACCESSORI</a:t>
              </a:r>
              <a:endParaRPr b="0" lang="en-US" sz="2700" spc="-1" strike="noStrike">
                <a:solidFill>
                  <a:srgbClr val="e8e6fe"/>
                </a:solidFill>
                <a:latin typeface="Arial"/>
              </a:endParaRPr>
            </a:p>
          </p:txBody>
        </p:sp>
      </p:grpSp>
      <p:sp>
        <p:nvSpPr>
          <p:cNvPr id="145" name="AutoShape 9"/>
          <p:cNvSpPr/>
          <p:nvPr/>
        </p:nvSpPr>
        <p:spPr>
          <a:xfrm>
            <a:off x="1828800" y="2246400"/>
            <a:ext cx="6094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bd1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46" name="AutoShape 10"/>
          <p:cNvSpPr/>
          <p:nvPr/>
        </p:nvSpPr>
        <p:spPr>
          <a:xfrm>
            <a:off x="380880" y="2590920"/>
            <a:ext cx="3962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2f7676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Può essere espressa numerando i pezzi,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o con misure di lunghezza, di peso,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di capacità a seconda che si tratti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di merci solide, liquide o gassose</a:t>
            </a:r>
            <a:r>
              <a:rPr b="1" lang="it-IT" sz="1600" spc="-1" strike="noStrike">
                <a:solidFill>
                  <a:srgbClr val="1306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5029200" y="4495680"/>
            <a:ext cx="396252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40678"/>
                </a:solidFill>
                <a:latin typeface="Arial"/>
              </a:rPr>
              <a:t>Occorre indicare il luogo, il tempo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40678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140678"/>
                </a:solidFill>
                <a:latin typeface="Arial"/>
              </a:rPr>
              <a:t>e le modalità di pagamento del prezzo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40678"/>
                </a:solidFill>
                <a:latin typeface="Arial"/>
              </a:rPr>
              <a:t>da parte del comprator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48" name="WordArt 19"/>
          <p:cNvSpPr txBox="1"/>
          <p:nvPr/>
        </p:nvSpPr>
        <p:spPr>
          <a:xfrm>
            <a:off x="5105520" y="4572000"/>
            <a:ext cx="38163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AMENTO DEL PREZZO</a:t>
            </a:r>
            <a:endParaRPr b="0" lang="en-US" sz="20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AutoShape 23"/>
          <p:cNvSpPr/>
          <p:nvPr/>
        </p:nvSpPr>
        <p:spPr>
          <a:xfrm>
            <a:off x="380880" y="3809880"/>
            <a:ext cx="3962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Può essere specificata mediant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descrizione o in base agli usi commerciali,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una stessa merce può avere diversi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livelli di qualità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>
            <a:off x="457200" y="5029200"/>
            <a:ext cx="38098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È il corrispettivo in denaro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dovuto dal compratore al venditor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1" name="WordArt 25"/>
          <p:cNvSpPr txBox="1"/>
          <p:nvPr/>
        </p:nvSpPr>
        <p:spPr>
          <a:xfrm>
            <a:off x="457200" y="2654280"/>
            <a:ext cx="3733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NTITA' DELLA MERCE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26"/>
          <p:cNvSpPr txBox="1"/>
          <p:nvPr/>
        </p:nvSpPr>
        <p:spPr>
          <a:xfrm>
            <a:off x="533520" y="3886200"/>
            <a:ext cx="3657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LITA' DELLA MERCE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27"/>
          <p:cNvSpPr txBox="1"/>
          <p:nvPr/>
        </p:nvSpPr>
        <p:spPr>
          <a:xfrm>
            <a:off x="1600200" y="5105520"/>
            <a:ext cx="1447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EZZO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380880" y="5943600"/>
            <a:ext cx="388620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La mancanza di uno di questi element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comporta la NULLITA’ del contrat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5" name="AutoShape 29"/>
          <p:cNvSpPr/>
          <p:nvPr/>
        </p:nvSpPr>
        <p:spPr>
          <a:xfrm>
            <a:off x="6629400" y="2246400"/>
            <a:ext cx="6094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bd1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6" name="AutoShape 30"/>
          <p:cNvSpPr/>
          <p:nvPr/>
        </p:nvSpPr>
        <p:spPr>
          <a:xfrm>
            <a:off x="5029200" y="2590920"/>
            <a:ext cx="396252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Fa riferimento al tempo e al luogo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di consegna della merc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7" name="WordArt 31"/>
          <p:cNvSpPr txBox="1"/>
          <p:nvPr/>
        </p:nvSpPr>
        <p:spPr>
          <a:xfrm>
            <a:off x="5181480" y="2654280"/>
            <a:ext cx="3657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SEGNA DELLA MERCE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AutoShape 32"/>
          <p:cNvSpPr/>
          <p:nvPr/>
        </p:nvSpPr>
        <p:spPr>
          <a:xfrm>
            <a:off x="5029200" y="3505320"/>
            <a:ext cx="3886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e8e6fe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Vi sono diverse clausole relative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all’imballaggio: gratuito, fatturato 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130674"/>
                </a:solidFill>
                <a:latin typeface="Arial"/>
              </a:rPr>
              <a:t>a parte o a rendere, fornito dal client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59" name="WordArt 33"/>
          <p:cNvSpPr txBox="1"/>
          <p:nvPr/>
        </p:nvSpPr>
        <p:spPr>
          <a:xfrm>
            <a:off x="5410080" y="3581280"/>
            <a:ext cx="2971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MBALLAGGIO</a:t>
            </a:r>
            <a:endParaRPr b="0" lang="en-US" sz="18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4876920" y="5638680"/>
            <a:ext cx="41148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Questi elementi non sono giuridicament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Indispensabili, ma hanno un’importanz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tecnico-commerciale per soddisfar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le diverse esigenze dei contraen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61" name="Rectangle 35"/>
          <p:cNvSpPr/>
          <p:nvPr/>
        </p:nvSpPr>
        <p:spPr>
          <a:xfrm>
            <a:off x="380880" y="228600"/>
            <a:ext cx="822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GLI ELEMENTI DEL CONTRATTO</a:t>
            </a:r>
            <a:endParaRPr b="0" lang="en-US" sz="32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62" name="Pagina iniziale 11">
            <a:hlinkClick r:id="" action="ppaction://hlinkshowjump?jump=firstslide"/>
          </p:cNvPr>
          <p:cNvSpPr/>
          <p:nvPr/>
        </p:nvSpPr>
        <p:spPr>
          <a:xfrm>
            <a:off x="8381880" y="2286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8080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</a:rPr>
              <a:t>IL TEMPO DI CONSEGNA DELLA ME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609480" y="1066680"/>
            <a:ext cx="8029800" cy="762120"/>
          </a:xfrm>
          <a:prstGeom prst="flowChartProcess">
            <a:avLst/>
          </a:prstGeom>
          <a:solidFill>
            <a:srgbClr val="e2c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Il contratto di compravendita  può prevedere clausole divers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relative al</a:t>
            </a: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TEMPO DI CONSEGNA DELLA MERC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65" name="Oval 17"/>
          <p:cNvSpPr/>
          <p:nvPr/>
        </p:nvSpPr>
        <p:spPr>
          <a:xfrm>
            <a:off x="6095880" y="2590920"/>
            <a:ext cx="198144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Consegna</a:t>
            </a:r>
            <a:r>
              <a:rPr b="1" lang="it-IT" sz="1900" spc="-1" strike="noStrike">
                <a:solidFill>
                  <a:srgbClr val="e8e6f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PRONTA</a:t>
            </a:r>
            <a:r>
              <a:rPr b="0" lang="it-IT" sz="1900" spc="-1" strike="noStrike">
                <a:solidFill>
                  <a:srgbClr val="2009bc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66" name="Oval 18"/>
          <p:cNvSpPr/>
          <p:nvPr/>
        </p:nvSpPr>
        <p:spPr>
          <a:xfrm>
            <a:off x="5181480" y="3276720"/>
            <a:ext cx="1981440" cy="7617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Consegna</a:t>
            </a:r>
            <a:r>
              <a:rPr b="0" lang="it-IT" sz="1900" spc="-1" strike="noStrike">
                <a:solidFill>
                  <a:srgbClr val="e8e6f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DIFFERITA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167" name="Connettore 2 14"/>
          <p:cNvCxnSpPr>
            <a:endCxn id="168" idx="2"/>
          </p:cNvCxnSpPr>
          <p:nvPr/>
        </p:nvCxnSpPr>
        <p:spPr>
          <a:xfrm flipV="1">
            <a:off x="2590920" y="2247120"/>
            <a:ext cx="2591280" cy="724680"/>
          </a:xfrm>
          <a:prstGeom prst="straightConnector1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69" name="Connettore 2 15"/>
          <p:cNvCxnSpPr/>
          <p:nvPr/>
        </p:nvCxnSpPr>
        <p:spPr>
          <a:xfrm flipV="1">
            <a:off x="2590920" y="2933280"/>
            <a:ext cx="3505680" cy="38880"/>
          </a:xfrm>
          <a:prstGeom prst="straightConnector1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</p:cxnSp>
      <p:cxnSp>
        <p:nvCxnSpPr>
          <p:cNvPr id="170" name="Connettore 2 17"/>
          <p:cNvCxnSpPr/>
          <p:nvPr/>
        </p:nvCxnSpPr>
        <p:spPr>
          <a:xfrm>
            <a:off x="2590920" y="2971440"/>
            <a:ext cx="2591280" cy="686520"/>
          </a:xfrm>
          <a:prstGeom prst="straightConnector1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68" name="Oval 16"/>
          <p:cNvSpPr/>
          <p:nvPr/>
        </p:nvSpPr>
        <p:spPr>
          <a:xfrm>
            <a:off x="5181480" y="1905120"/>
            <a:ext cx="1981440" cy="6858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Consegna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900" spc="-1" strike="noStrike">
                <a:solidFill>
                  <a:srgbClr val="2009bc"/>
                </a:solidFill>
                <a:latin typeface="Arial"/>
              </a:rPr>
              <a:t>IMMEDIATA</a:t>
            </a:r>
            <a:endParaRPr b="0" lang="en-US" sz="19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171" name="Connettore 2 17"/>
          <p:cNvCxnSpPr/>
          <p:nvPr/>
        </p:nvCxnSpPr>
        <p:spPr>
          <a:xfrm>
            <a:off x="762120" y="5409720"/>
            <a:ext cx="7734960" cy="25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72" name="AutoShape 9"/>
          <p:cNvSpPr/>
          <p:nvPr/>
        </p:nvSpPr>
        <p:spPr>
          <a:xfrm>
            <a:off x="457200" y="2133720"/>
            <a:ext cx="2133720" cy="1676160"/>
          </a:xfrm>
          <a:prstGeom prst="flowChartProcess">
            <a:avLst/>
          </a:prstGeom>
          <a:gradFill rotWithShape="0">
            <a:gsLst>
              <a:gs pos="0">
                <a:srgbClr val="ccff99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bd0923"/>
                </a:solidFill>
                <a:latin typeface="Arial"/>
              </a:rPr>
              <a:t>Clausol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bd0923"/>
                </a:solidFill>
                <a:latin typeface="Arial"/>
              </a:rPr>
              <a:t>contrattuali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TEMP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DI 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3" name="AutoShape 9"/>
          <p:cNvSpPr/>
          <p:nvPr/>
        </p:nvSpPr>
        <p:spPr>
          <a:xfrm>
            <a:off x="914400" y="4191120"/>
            <a:ext cx="19051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CONSEGNA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IMMEDIA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124080" y="4191120"/>
            <a:ext cx="19051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CONSEGNA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PRON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6324480" y="4191120"/>
            <a:ext cx="205740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CONSEGNA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DIFFERI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7924680" y="5334120"/>
            <a:ext cx="9144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alibri"/>
              </a:rPr>
              <a:t>TEMP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04920" y="5867280"/>
            <a:ext cx="274320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STIPULAZION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DEL CONTRA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178" name="Connettore 2 14"/>
          <p:cNvCxnSpPr/>
          <p:nvPr/>
        </p:nvCxnSpPr>
        <p:spPr>
          <a:xfrm>
            <a:off x="1599840" y="488952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79" name="Connettore 2 14"/>
          <p:cNvCxnSpPr/>
          <p:nvPr/>
        </p:nvCxnSpPr>
        <p:spPr>
          <a:xfrm>
            <a:off x="4114440" y="487692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0" name="Connettore 2 14"/>
          <p:cNvCxnSpPr/>
          <p:nvPr/>
        </p:nvCxnSpPr>
        <p:spPr>
          <a:xfrm flipV="1">
            <a:off x="1599840" y="5409720"/>
            <a:ext cx="1080" cy="457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81" name="Connettore 2 14"/>
          <p:cNvCxnSpPr/>
          <p:nvPr/>
        </p:nvCxnSpPr>
        <p:spPr>
          <a:xfrm>
            <a:off x="7314840" y="487692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182" name="Picture 28" descr="j0234131"/>
          <p:cNvPicPr/>
          <p:nvPr/>
        </p:nvPicPr>
        <p:blipFill>
          <a:blip r:embed="rId1"/>
          <a:stretch/>
        </p:blipFill>
        <p:spPr>
          <a:xfrm>
            <a:off x="2590920" y="2209680"/>
            <a:ext cx="1904760" cy="1524240"/>
          </a:xfrm>
          <a:prstGeom prst="rect">
            <a:avLst/>
          </a:prstGeom>
          <a:ln w="0">
            <a:noFill/>
          </a:ln>
        </p:spPr>
      </p:pic>
      <p:sp>
        <p:nvSpPr>
          <p:cNvPr id="183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IL LUOGO DI CONSEGNA DELLA MER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MCj03112900000[1]"/>
          <p:cNvPicPr/>
          <p:nvPr/>
        </p:nvPicPr>
        <p:blipFill>
          <a:blip r:embed="rId1"/>
          <a:stretch/>
        </p:blipFill>
        <p:spPr>
          <a:xfrm>
            <a:off x="2743200" y="1219320"/>
            <a:ext cx="1676520" cy="1218960"/>
          </a:xfrm>
          <a:prstGeom prst="rect">
            <a:avLst/>
          </a:prstGeom>
          <a:ln w="0">
            <a:noFill/>
          </a:ln>
        </p:spPr>
      </p:pic>
      <p:sp>
        <p:nvSpPr>
          <p:cNvPr id="186" name="Freccia a destra 10"/>
          <p:cNvSpPr/>
          <p:nvPr/>
        </p:nvSpPr>
        <p:spPr>
          <a:xfrm>
            <a:off x="2666880" y="5486400"/>
            <a:ext cx="3810240" cy="838080"/>
          </a:xfrm>
          <a:prstGeom prst="rightArrow">
            <a:avLst>
              <a:gd name="adj1" fmla="val 66324"/>
              <a:gd name="adj2" fmla="val 49210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Tutti i rischi e i costi del trasporto gravano sul vendi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87" name="Freccia a destra 10"/>
          <p:cNvSpPr/>
          <p:nvPr/>
        </p:nvSpPr>
        <p:spPr>
          <a:xfrm>
            <a:off x="2679840" y="4546440"/>
            <a:ext cx="1981080" cy="890640"/>
          </a:xfrm>
          <a:prstGeom prst="rightArrow">
            <a:avLst>
              <a:gd name="adj1" fmla="val 77139"/>
              <a:gd name="adj2" fmla="val 40172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sti e rischi del vendi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88" name="WordArt 12"/>
          <p:cNvSpPr txBox="1"/>
          <p:nvPr/>
        </p:nvSpPr>
        <p:spPr>
          <a:xfrm>
            <a:off x="2819520" y="2514600"/>
            <a:ext cx="1752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GAZZIN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VENDITOR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9" name="WordArt 13"/>
          <p:cNvSpPr txBox="1"/>
          <p:nvPr/>
        </p:nvSpPr>
        <p:spPr>
          <a:xfrm>
            <a:off x="7010280" y="1219320"/>
            <a:ext cx="1905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AGAZZINO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PRATOR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228600" y="2819520"/>
            <a:ext cx="2362320" cy="609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Clausole contrattual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LUOGO DI CONSEGN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28600" y="3733920"/>
            <a:ext cx="21337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FRANC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PARTENZ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228600" y="4648320"/>
            <a:ext cx="21337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FRANCO LUOG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INTERMEDI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228600" y="5562720"/>
            <a:ext cx="213372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FRANC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DESTIN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4" name="Freccia a destra 10"/>
          <p:cNvSpPr/>
          <p:nvPr/>
        </p:nvSpPr>
        <p:spPr>
          <a:xfrm>
            <a:off x="6781680" y="4495680"/>
            <a:ext cx="1905120" cy="990720"/>
          </a:xfrm>
          <a:prstGeom prst="rightArrow">
            <a:avLst>
              <a:gd name="adj1" fmla="val 66324"/>
              <a:gd name="adj2" fmla="val 41931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Costi e rischi del vendi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5" name="Freccia a destra 10"/>
          <p:cNvSpPr/>
          <p:nvPr/>
        </p:nvSpPr>
        <p:spPr>
          <a:xfrm>
            <a:off x="4724280" y="3657600"/>
            <a:ext cx="3962520" cy="838080"/>
          </a:xfrm>
          <a:prstGeom prst="rightArrow">
            <a:avLst>
              <a:gd name="adj1" fmla="val 81065"/>
              <a:gd name="adj2" fmla="val 51112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Tutti i rischi e i costi del trasporto gravano sul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2666880" y="3733920"/>
            <a:ext cx="1905120" cy="685800"/>
          </a:xfrm>
          <a:prstGeom prst="flowChartProcess">
            <a:avLst/>
          </a:prstGeom>
          <a:solidFill>
            <a:srgbClr val="e379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4800600" y="4648320"/>
            <a:ext cx="1676520" cy="685800"/>
          </a:xfrm>
          <a:prstGeom prst="flowChartProcess">
            <a:avLst/>
          </a:prstGeom>
          <a:solidFill>
            <a:srgbClr val="e379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6781680" y="5562720"/>
            <a:ext cx="1828800" cy="685800"/>
          </a:xfrm>
          <a:prstGeom prst="flowChartProcess">
            <a:avLst/>
          </a:prstGeom>
          <a:solidFill>
            <a:srgbClr val="e379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99" name="AutoShape 14"/>
          <p:cNvSpPr/>
          <p:nvPr/>
        </p:nvSpPr>
        <p:spPr>
          <a:xfrm>
            <a:off x="228600" y="990720"/>
            <a:ext cx="2362320" cy="19047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500" spc="-1" strike="noStrike">
                <a:solidFill>
                  <a:srgbClr val="000099"/>
                </a:solidFill>
                <a:latin typeface="Arial"/>
              </a:rPr>
              <a:t>La CONSEGNA delle merci comporta il SOSTENIMENTO DI COSTI E L’ASSUNZIONE DI RISCHI</a:t>
            </a:r>
            <a:endParaRPr b="0" lang="en-US" sz="15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200" name="Picture 25" descr=""/>
          <p:cNvPicPr/>
          <p:nvPr/>
        </p:nvPicPr>
        <p:blipFill>
          <a:blip r:embed="rId2"/>
          <a:stretch/>
        </p:blipFill>
        <p:spPr>
          <a:xfrm>
            <a:off x="7086600" y="182880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201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IL TRASPORTO TRAMITE VET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33320" y="1495440"/>
            <a:ext cx="3638880" cy="16574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e8e6fe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 fontScale="95000"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2009bc"/>
                </a:solidFill>
                <a:latin typeface="Arial"/>
              </a:rPr>
              <a:t>Il trasporto può essere effettuato con mezzi del venditore o del compratore. Altre volte i contraenti si rivolgono a un’azienda specializzata:            </a:t>
            </a: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bd0923"/>
                </a:solidFill>
                <a:latin typeface="Arial"/>
              </a:rPr>
              <a:t>Il VETTORE, </a:t>
            </a:r>
            <a:r>
              <a:rPr b="1" lang="it-IT" sz="1700" spc="-1" strike="noStrike">
                <a:solidFill>
                  <a:srgbClr val="2009bc"/>
                </a:solidFill>
                <a:latin typeface="Arial"/>
              </a:rPr>
              <a:t>che richiede un compenso per il trasporto della mer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4495680" y="2590920"/>
            <a:ext cx="205740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POR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FRANC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858000" y="2590920"/>
            <a:ext cx="2057400" cy="685800"/>
          </a:xfrm>
          <a:prstGeom prst="flowChartProcess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POR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ASSEGNA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206" name="Connettore 2 14"/>
          <p:cNvCxnSpPr>
            <a:endCxn id="204" idx="0"/>
          </p:cNvCxnSpPr>
          <p:nvPr/>
        </p:nvCxnSpPr>
        <p:spPr>
          <a:xfrm flipH="1">
            <a:off x="5523840" y="2285640"/>
            <a:ext cx="1143720" cy="30564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207" name="Connettore 2 14"/>
          <p:cNvCxnSpPr/>
          <p:nvPr/>
        </p:nvCxnSpPr>
        <p:spPr>
          <a:xfrm>
            <a:off x="6667200" y="2285640"/>
            <a:ext cx="1220040" cy="305640"/>
          </a:xfrm>
          <a:prstGeom prst="straightConnector1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</p:cxnSp>
      <p:pic>
        <p:nvPicPr>
          <p:cNvPr id="208" name="Picture 10" descr="consegna"/>
          <p:cNvPicPr/>
          <p:nvPr/>
        </p:nvPicPr>
        <p:blipFill>
          <a:blip r:embed="rId1"/>
          <a:stretch/>
        </p:blipFill>
        <p:spPr>
          <a:xfrm>
            <a:off x="533520" y="3443400"/>
            <a:ext cx="3733560" cy="2728800"/>
          </a:xfrm>
          <a:prstGeom prst="rect">
            <a:avLst/>
          </a:prstGeom>
          <a:ln w="0">
            <a:noFill/>
          </a:ln>
        </p:spPr>
      </p:pic>
      <p:sp>
        <p:nvSpPr>
          <p:cNvPr id="209" name="Freccia a destra 16"/>
          <p:cNvSpPr/>
          <p:nvPr/>
        </p:nvSpPr>
        <p:spPr>
          <a:xfrm rot="5400000">
            <a:off x="5371920" y="3238200"/>
            <a:ext cx="304920" cy="533520"/>
          </a:xfrm>
          <a:prstGeom prst="rightArrow">
            <a:avLst>
              <a:gd name="adj1" fmla="val 62694"/>
              <a:gd name="adj2" fmla="val 22222"/>
            </a:avLst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0" name="Freccia a destra 16"/>
          <p:cNvSpPr/>
          <p:nvPr/>
        </p:nvSpPr>
        <p:spPr>
          <a:xfrm rot="5400000">
            <a:off x="7733880" y="3238560"/>
            <a:ext cx="304920" cy="533160"/>
          </a:xfrm>
          <a:prstGeom prst="rightArrow">
            <a:avLst>
              <a:gd name="adj1" fmla="val 62694"/>
              <a:gd name="adj2" fmla="val 22222"/>
            </a:avLst>
          </a:pr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4419720" y="3733920"/>
            <a:ext cx="2209680" cy="24382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2438280"/>
              <a:gd name="textAreaBottom" fmla="*/ 2330640 h 2438280"/>
            </a:gdLst>
            <a:ahLst/>
            <a:rect l="textAreaLeft" t="textAreaTop" r="textAreaRight" b="textAreaBottom"/>
            <a:pathLst>
              <a:path w="21600" h="23834">
                <a:moveTo>
                  <a:pt x="3600" y="0"/>
                </a:moveTo>
                <a:arcTo wR="3600" hR="3600" stAng="16200000" swAng="-5400000"/>
                <a:lnTo>
                  <a:pt x="0" y="20234"/>
                </a:lnTo>
                <a:arcTo wR="3600" hR="3600" stAng="10800000" swAng="-5400000"/>
                <a:lnTo>
                  <a:pt x="18000" y="23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quando il prezzo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el trasport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ovuto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l vettore dev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sere pagato </a:t>
            </a: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dal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VENDITOR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ALLA PARTENZA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DELLA MERC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2" name="AutoShape 14"/>
          <p:cNvSpPr/>
          <p:nvPr/>
        </p:nvSpPr>
        <p:spPr>
          <a:xfrm>
            <a:off x="6781680" y="3733920"/>
            <a:ext cx="2210040" cy="2438280"/>
          </a:xfrm>
          <a:custGeom>
            <a:avLst/>
            <a:gdLst>
              <a:gd name="textAreaLeft" fmla="*/ 107640 w 2210040"/>
              <a:gd name="textAreaRight" fmla="*/ 2102400 w 2210040"/>
              <a:gd name="textAreaTop" fmla="*/ 107640 h 2438280"/>
              <a:gd name="textAreaBottom" fmla="*/ 2330640 h 2438280"/>
            </a:gdLst>
            <a:ahLst/>
            <a:rect l="textAreaLeft" t="textAreaTop" r="textAreaRight" b="textAreaBottom"/>
            <a:pathLst>
              <a:path w="21600" h="23830">
                <a:moveTo>
                  <a:pt x="3600" y="0"/>
                </a:moveTo>
                <a:arcTo wR="3600" hR="3600" stAng="16200000" swAng="-5400000"/>
                <a:lnTo>
                  <a:pt x="0" y="20230"/>
                </a:lnTo>
                <a:arcTo wR="3600" hR="3600" stAng="10800000" swAng="-5400000"/>
                <a:lnTo>
                  <a:pt x="18000" y="238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quando il prezzo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el trasport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ovuto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l vettore dev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essere pagato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dal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COMPRATOR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ALL’ARRIV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DELLA MERC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213" name="Picture 16" descr=""/>
          <p:cNvPicPr/>
          <p:nvPr/>
        </p:nvPicPr>
        <p:blipFill>
          <a:blip r:embed="rId2"/>
          <a:srcRect l="1193" t="17078" r="1605" b="16897"/>
          <a:stretch/>
        </p:blipFill>
        <p:spPr>
          <a:xfrm>
            <a:off x="4622760" y="1330200"/>
            <a:ext cx="4119480" cy="10224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7"/>
          <p:cNvSpPr/>
          <p:nvPr/>
        </p:nvSpPr>
        <p:spPr>
          <a:xfrm>
            <a:off x="4952880" y="1447920"/>
            <a:ext cx="34290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11056b"/>
                </a:solidFill>
                <a:latin typeface="Arial"/>
              </a:rPr>
              <a:t>CLAUSOLE TRASPOR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000" spc="-1" strike="noStrike">
                <a:solidFill>
                  <a:srgbClr val="11056b"/>
                </a:solidFill>
                <a:latin typeface="Arial"/>
              </a:rPr>
              <a:t>tramite VETTOR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5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394080" y="176040"/>
            <a:ext cx="2535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55480" y="152280"/>
            <a:ext cx="803304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70036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77840"/>
            <a:ext cx="914400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’IMBALLAGG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5" descr="cartoni"/>
          <p:cNvPicPr/>
          <p:nvPr/>
        </p:nvPicPr>
        <p:blipFill>
          <a:blip r:embed="rId1"/>
          <a:stretch/>
        </p:blipFill>
        <p:spPr>
          <a:xfrm>
            <a:off x="457200" y="2073240"/>
            <a:ext cx="4191120" cy="401328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1"/>
          <p:cNvSpPr/>
          <p:nvPr/>
        </p:nvSpPr>
        <p:spPr>
          <a:xfrm>
            <a:off x="228600" y="762120"/>
            <a:ext cx="8610480" cy="16761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0099">
                  <a:alpha val="0"/>
                </a:srgbClr>
              </a:gs>
              <a:gs pos="100000">
                <a:srgbClr val="e2ca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L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’IMBALLAGGIO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, detto anche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CONFEZIONE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  <a:ea typeface="Arial"/>
              </a:rPr>
              <a:t>o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PACKAGING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è costituito da involucri di vario material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adibiti a contenere e proteggere la merce durante il trasporto,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la conservazione e la manipolazione, nonché a render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più gradevole l’aspetto estetic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2" name="AutoShape 17"/>
          <p:cNvSpPr/>
          <p:nvPr/>
        </p:nvSpPr>
        <p:spPr>
          <a:xfrm>
            <a:off x="3581280" y="5105520"/>
            <a:ext cx="5257800" cy="761760"/>
          </a:xfrm>
          <a:prstGeom prst="flowChartAlternateProcess">
            <a:avLst/>
          </a:prstGeom>
          <a:solidFill>
            <a:srgbClr val="ffccff">
              <a:alpha val="90000"/>
            </a:srgbClr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BALLAGGIO FORNITO DAL CLIEN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quando il compratore mette a disposizione del venditore l’imballaggio per il trasporto della merc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4267080" y="2438280"/>
            <a:ext cx="4572000" cy="762120"/>
          </a:xfrm>
          <a:prstGeom prst="flowChartAlternateProcess">
            <a:avLst/>
          </a:prstGeom>
          <a:solidFill>
            <a:srgbClr val="ffccff">
              <a:alpha val="90000"/>
            </a:srgbClr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BALLAGGIO GRATUI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Viene fornito dal venditore senza addebitare nessun importo al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343400" y="3352680"/>
            <a:ext cx="4495680" cy="762120"/>
          </a:xfrm>
          <a:prstGeom prst="flowChartAlternateProcess">
            <a:avLst/>
          </a:prstGeom>
          <a:solidFill>
            <a:srgbClr val="ffccff">
              <a:alpha val="90000"/>
            </a:srgbClr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BALLAGGIO FATTURATO A PARTE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quando il venditore lo addebita al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5" name="AutoShape 17"/>
          <p:cNvSpPr/>
          <p:nvPr/>
        </p:nvSpPr>
        <p:spPr>
          <a:xfrm>
            <a:off x="4191120" y="4267080"/>
            <a:ext cx="4647960" cy="685800"/>
          </a:xfrm>
          <a:prstGeom prst="flowChartAlternateProcess">
            <a:avLst/>
          </a:prstGeom>
          <a:solidFill>
            <a:srgbClr val="ffccff">
              <a:alpha val="90000"/>
            </a:srgbClr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BALLAGGIO A RENDE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quando il compratore ha l’obbligo di restituirlo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26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8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8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8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8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8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8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8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8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8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8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8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8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19520" y="365760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066320" y="1447560"/>
            <a:ext cx="7239240" cy="533160"/>
          </a:xfrm>
          <a:prstGeom prst="rect">
            <a:avLst/>
          </a:prstGeom>
          <a:gradFill rotWithShape="0">
            <a:gsLst>
              <a:gs pos="0">
                <a:srgbClr val="e2caf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009bc"/>
                </a:solidFill>
                <a:latin typeface="Arial"/>
              </a:rPr>
              <a:t>Il peso dell’imballaggio si chiama </a:t>
            </a:r>
            <a:r>
              <a:rPr b="1" lang="it-IT" sz="2400" spc="-1" strike="noStrike">
                <a:solidFill>
                  <a:srgbClr val="bd0923"/>
                </a:solidFill>
                <a:latin typeface="Arial"/>
              </a:rPr>
              <a:t>t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838080" y="2133720"/>
            <a:ext cx="7848720" cy="838080"/>
          </a:xfrm>
          <a:prstGeom prst="flowChartProcess">
            <a:avLst/>
          </a:prstGeom>
          <a:gradFill rotWithShape="0">
            <a:gsLst>
              <a:gs pos="0">
                <a:srgbClr val="e2cafa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009bc"/>
                </a:solidFill>
                <a:latin typeface="Arial"/>
              </a:rPr>
              <a:t>Se sommiamo al peso della sola merce (</a:t>
            </a:r>
            <a:r>
              <a:rPr b="1" lang="it-IT" sz="2400" spc="-1" strike="noStrike">
                <a:solidFill>
                  <a:srgbClr val="bd0923"/>
                </a:solidFill>
                <a:latin typeface="Arial"/>
              </a:rPr>
              <a:t>peso netto</a:t>
            </a:r>
            <a:r>
              <a:rPr b="1" lang="it-IT" sz="2400" spc="-1" strike="noStrike">
                <a:solidFill>
                  <a:srgbClr val="2009bc"/>
                </a:solidFill>
                <a:latin typeface="Arial"/>
              </a:rPr>
              <a:t>) la tara, otteniamo il</a:t>
            </a:r>
            <a:r>
              <a:rPr b="1" lang="it-IT" sz="2400" spc="-1" strike="noStrike">
                <a:solidFill>
                  <a:srgbClr val="bd0923"/>
                </a:solidFill>
                <a:latin typeface="Arial"/>
              </a:rPr>
              <a:t> peso lord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838080" y="3581280"/>
            <a:ext cx="190512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ne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3657600" y="3581280"/>
            <a:ext cx="137160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r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0" y="7632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A TARA</a:t>
            </a:r>
            <a:endParaRPr b="0" lang="en-US" sz="32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5181480" y="3657600"/>
            <a:ext cx="7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4" name="AutoShape 9"/>
          <p:cNvSpPr/>
          <p:nvPr/>
        </p:nvSpPr>
        <p:spPr>
          <a:xfrm>
            <a:off x="6248520" y="3581280"/>
            <a:ext cx="1904760" cy="685800"/>
          </a:xfrm>
          <a:prstGeom prst="flowChartProcess">
            <a:avLst/>
          </a:prstGeom>
          <a:solidFill>
            <a:srgbClr val="fa8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lord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838080" y="4572000"/>
            <a:ext cx="236232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lord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3809880" y="4572000"/>
            <a:ext cx="198144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ne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5867280" y="4648320"/>
            <a:ext cx="760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3124080" y="4572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6781680" y="4572000"/>
            <a:ext cx="1371600" cy="685800"/>
          </a:xfrm>
          <a:prstGeom prst="flowChartProcess">
            <a:avLst/>
          </a:prstGeom>
          <a:solidFill>
            <a:srgbClr val="fa8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r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838080" y="5562720"/>
            <a:ext cx="236232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lord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3124080" y="5562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-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3809880" y="5562720"/>
            <a:ext cx="137160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r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6172200" y="5562720"/>
            <a:ext cx="1981080" cy="685800"/>
          </a:xfrm>
          <a:prstGeom prst="flowChartProcess">
            <a:avLst/>
          </a:prstGeom>
          <a:solidFill>
            <a:srgbClr val="fa83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so ne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5334120" y="5638680"/>
            <a:ext cx="76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4000" spc="-1" strike="noStrike">
                <a:solidFill>
                  <a:srgbClr val="2009bc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45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GLI IMBALLAGGI </a:t>
            </a:r>
            <a:br>
              <a:rPr sz="3200"/>
            </a:b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E LA TUTELA DELL’AMB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4" descr="conai"/>
          <p:cNvPicPr/>
          <p:nvPr/>
        </p:nvPicPr>
        <p:blipFill>
          <a:blip r:embed="rId1"/>
          <a:stretch/>
        </p:blipFill>
        <p:spPr>
          <a:xfrm>
            <a:off x="6629400" y="2362320"/>
            <a:ext cx="2057400" cy="2457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phpThumb_generated_thumbnailjpg"/>
          <p:cNvPicPr/>
          <p:nvPr/>
        </p:nvPicPr>
        <p:blipFill>
          <a:blip r:embed="rId2"/>
          <a:stretch/>
        </p:blipFill>
        <p:spPr>
          <a:xfrm>
            <a:off x="914400" y="1512720"/>
            <a:ext cx="2438280" cy="15354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9449105_conai-recupero-imballaggi-0"/>
          <p:cNvPicPr/>
          <p:nvPr/>
        </p:nvPicPr>
        <p:blipFill>
          <a:blip r:embed="rId3"/>
          <a:stretch/>
        </p:blipFill>
        <p:spPr>
          <a:xfrm>
            <a:off x="838080" y="5638680"/>
            <a:ext cx="2362320" cy="838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9"/>
          <p:cNvSpPr/>
          <p:nvPr/>
        </p:nvSpPr>
        <p:spPr>
          <a:xfrm>
            <a:off x="228600" y="3048120"/>
            <a:ext cx="3809880" cy="13716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cff99"/>
              </a:gs>
              <a:gs pos="50000">
                <a:srgbClr val="e8e6fe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L’impiego di imballaggi a perder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causa gravi problemi ecologici …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.producendo tonnellate di rifiu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che INQUINANO L’AMBIEN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1" name="Freccia a destra 10"/>
          <p:cNvSpPr/>
          <p:nvPr/>
        </p:nvSpPr>
        <p:spPr>
          <a:xfrm rot="5400000">
            <a:off x="1523520" y="3048120"/>
            <a:ext cx="1143000" cy="3886200"/>
          </a:xfrm>
          <a:prstGeom prst="rightArrow">
            <a:avLst>
              <a:gd name="adj1" fmla="val 66324"/>
              <a:gd name="adj2" fmla="val 18560"/>
            </a:avLst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  <a:ea typeface="Arial"/>
              </a:rPr>
              <a:t>Per contenere l’impatto ambientale  derivante dall’utilizzo di imballaggi in Italia è stato istitui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3733920" y="1371600"/>
            <a:ext cx="5257800" cy="609480"/>
          </a:xfrm>
          <a:prstGeom prst="horizontalScroll">
            <a:avLst>
              <a:gd name="adj" fmla="val 125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L’UE con delle DIRETTIVE ha fissato delle regole su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3" name="AutoShape 15"/>
          <p:cNvSpPr/>
          <p:nvPr/>
        </p:nvSpPr>
        <p:spPr>
          <a:xfrm>
            <a:off x="4191120" y="2057400"/>
            <a:ext cx="2133360" cy="1143000"/>
          </a:xfrm>
          <a:prstGeom prst="flowChartAlternateProcess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nsiste nella riduzione del pes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o del volume dell’imballaggi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4" name="AutoShape 15"/>
          <p:cNvSpPr/>
          <p:nvPr/>
        </p:nvSpPr>
        <p:spPr>
          <a:xfrm>
            <a:off x="4267080" y="3352680"/>
            <a:ext cx="2057400" cy="1219320"/>
          </a:xfrm>
          <a:prstGeom prst="flowChartAlternateProcess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he consiste nel </a:t>
            </a: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REIMPIEGO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 dell’imballaggio già utilizza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4267080" y="4724280"/>
            <a:ext cx="2133720" cy="1600200"/>
          </a:xfrm>
          <a:prstGeom prst="flowChartAlternateProcess">
            <a:avLst/>
          </a:prstGeom>
          <a:solidFill>
            <a:srgbClr val="ffff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consiste nel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RICICLAGGIO degli imballagg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99"/>
                </a:solidFill>
                <a:latin typeface="Arial"/>
              </a:rPr>
              <a:t>o nel loro incenerimento per produrre energi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6" name="Oval 15"/>
          <p:cNvSpPr/>
          <p:nvPr/>
        </p:nvSpPr>
        <p:spPr>
          <a:xfrm>
            <a:off x="6629400" y="4648320"/>
            <a:ext cx="2057400" cy="1143000"/>
          </a:xfrm>
          <a:prstGeom prst="ellipse">
            <a:avLst/>
          </a:prstGeom>
          <a:gradFill rotWithShape="0">
            <a:gsLst>
              <a:gs pos="0">
                <a:srgbClr val="6699ff"/>
              </a:gs>
              <a:gs pos="50000">
                <a:srgbClr val="2f4776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e8e6fe"/>
                </a:solidFill>
                <a:latin typeface="Arial"/>
              </a:rPr>
              <a:t>RACCOLT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e8e6fe"/>
                </a:solidFill>
                <a:latin typeface="Arial"/>
              </a:rPr>
              <a:t>DIFFERENZIAT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57" name="WordArt 16"/>
          <p:cNvSpPr txBox="1"/>
          <p:nvPr/>
        </p:nvSpPr>
        <p:spPr>
          <a:xfrm>
            <a:off x="4419720" y="21337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EVENZIONE</a:t>
            </a:r>
            <a:endParaRPr b="0" lang="en-US" sz="16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WordArt 17"/>
          <p:cNvSpPr txBox="1"/>
          <p:nvPr/>
        </p:nvSpPr>
        <p:spPr>
          <a:xfrm>
            <a:off x="4495680" y="342900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IUTILIZZO</a:t>
            </a:r>
            <a:endParaRPr b="0" lang="en-US" sz="14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WordArt 18"/>
          <p:cNvSpPr txBox="1"/>
          <p:nvPr/>
        </p:nvSpPr>
        <p:spPr>
          <a:xfrm>
            <a:off x="4495680" y="4800600"/>
            <a:ext cx="16765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CUPERO</a:t>
            </a:r>
            <a:endParaRPr b="0" lang="en-US" sz="1600" spc="1" strike="noStrike">
              <a:ln w="0">
                <a:noFill/>
              </a:ln>
              <a:solidFill>
                <a:srgbClr val="33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0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E CLAUSOLE DI PAG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2209680" y="990720"/>
            <a:ext cx="4496040" cy="457200"/>
          </a:xfrm>
          <a:prstGeom prst="flowChart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TEMPO DI PAGAMENT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63" name="Rettangolo 15"/>
          <p:cNvSpPr/>
          <p:nvPr/>
        </p:nvSpPr>
        <p:spPr>
          <a:xfrm>
            <a:off x="2438280" y="1600200"/>
            <a:ext cx="213372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IMMEDIA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2009bc"/>
                </a:solidFill>
                <a:latin typeface="Arial"/>
              </a:rPr>
              <a:t>quando il pagamento avviene al momento della consegna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64" name="Rettangolo 15"/>
          <p:cNvSpPr/>
          <p:nvPr/>
        </p:nvSpPr>
        <p:spPr>
          <a:xfrm>
            <a:off x="228600" y="1600200"/>
            <a:ext cx="20574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ANTICIPA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2009bc"/>
                </a:solidFill>
                <a:latin typeface="Arial"/>
              </a:rPr>
              <a:t>quando il pagamento avviene prima della consegna della merce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65" name="Rettangolo 15"/>
          <p:cNvSpPr/>
          <p:nvPr/>
        </p:nvSpPr>
        <p:spPr>
          <a:xfrm>
            <a:off x="4724280" y="1600200"/>
            <a:ext cx="20574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PER CONTAN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2009bc"/>
                </a:solidFill>
                <a:latin typeface="Arial"/>
              </a:rPr>
              <a:t>quando avviene entro un breve periodo dalla consegna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66" name="Rettangolo 15"/>
          <p:cNvSpPr/>
          <p:nvPr/>
        </p:nvSpPr>
        <p:spPr>
          <a:xfrm>
            <a:off x="6934320" y="1600200"/>
            <a:ext cx="2057400" cy="9144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POSTICIPATO o DIFFERI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400" spc="-1" strike="noStrike">
                <a:solidFill>
                  <a:srgbClr val="2009bc"/>
                </a:solidFill>
                <a:latin typeface="Arial"/>
              </a:rPr>
              <a:t>quando avviene dopo la consegna</a:t>
            </a:r>
            <a:endParaRPr b="0" lang="en-US" sz="14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267" name="Connettore 2 17"/>
          <p:cNvCxnSpPr/>
          <p:nvPr/>
        </p:nvCxnSpPr>
        <p:spPr>
          <a:xfrm>
            <a:off x="380880" y="3048120"/>
            <a:ext cx="8382600" cy="21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68" name="Rectangle 14"/>
          <p:cNvSpPr/>
          <p:nvPr/>
        </p:nvSpPr>
        <p:spPr>
          <a:xfrm>
            <a:off x="7849800" y="32767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TEMP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269" name="Connettore 2 14"/>
          <p:cNvCxnSpPr/>
          <p:nvPr/>
        </p:nvCxnSpPr>
        <p:spPr>
          <a:xfrm>
            <a:off x="1218960" y="251460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70" name="Connettore 2 14"/>
          <p:cNvCxnSpPr/>
          <p:nvPr/>
        </p:nvCxnSpPr>
        <p:spPr>
          <a:xfrm>
            <a:off x="3504960" y="251460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71" name="Connettore 2 14"/>
          <p:cNvCxnSpPr/>
          <p:nvPr/>
        </p:nvCxnSpPr>
        <p:spPr>
          <a:xfrm>
            <a:off x="5714640" y="251460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72" name="Connettore 2 14"/>
          <p:cNvCxnSpPr/>
          <p:nvPr/>
        </p:nvCxnSpPr>
        <p:spPr>
          <a:xfrm>
            <a:off x="8076960" y="2514600"/>
            <a:ext cx="1080" cy="5212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73" name="AutoShape 9"/>
          <p:cNvSpPr/>
          <p:nvPr/>
        </p:nvSpPr>
        <p:spPr>
          <a:xfrm>
            <a:off x="2362320" y="3505320"/>
            <a:ext cx="2286000" cy="6858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CONSEGN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990033"/>
                </a:solidFill>
                <a:latin typeface="Arial"/>
              </a:rPr>
              <a:t>della merc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cxnSp>
        <p:nvCxnSpPr>
          <p:cNvPr id="274" name="Connettore 2 14"/>
          <p:cNvCxnSpPr/>
          <p:nvPr/>
        </p:nvCxnSpPr>
        <p:spPr>
          <a:xfrm flipV="1">
            <a:off x="3504960" y="3047760"/>
            <a:ext cx="1080" cy="45792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275" name="AutoShape 14"/>
          <p:cNvSpPr/>
          <p:nvPr/>
        </p:nvSpPr>
        <p:spPr>
          <a:xfrm>
            <a:off x="457200" y="4343400"/>
            <a:ext cx="8153280" cy="19051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LUOGO DI PAGAMENT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009bc"/>
                </a:solidFill>
                <a:latin typeface="Arial"/>
              </a:rPr>
              <a:t>Il prezzo deve essere pagato dal compratore al venditore nel LUOGO indicato nel contratto.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009bc"/>
                </a:solidFill>
                <a:latin typeface="Arial"/>
              </a:rPr>
              <a:t>In mancanza di indicazioni contrattuali il pagamento deve avvenir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2009bc"/>
                </a:solidFill>
                <a:latin typeface="Arial"/>
              </a:rPr>
              <a:t>al MOMENTO e nel LUOGO di consegna della merc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76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1" dur="8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8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267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</a:rPr>
              <a:t>LE MODALITA’ DI PAGA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18" descr="imagesCA3ZNQLC"/>
          <p:cNvPicPr/>
          <p:nvPr/>
        </p:nvPicPr>
        <p:blipFill>
          <a:blip r:embed="rId1"/>
          <a:stretch/>
        </p:blipFill>
        <p:spPr>
          <a:xfrm>
            <a:off x="5715000" y="2819520"/>
            <a:ext cx="2209680" cy="1989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23"/>
          <p:cNvSpPr/>
          <p:nvPr/>
        </p:nvSpPr>
        <p:spPr>
          <a:xfrm>
            <a:off x="6324480" y="3733920"/>
            <a:ext cx="2667240" cy="16002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cccff"/>
              </a:gs>
              <a:gs pos="100000">
                <a:srgbClr val="e8e6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Nei Paesi dell’UEM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la moneta di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pagamento è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bd0923"/>
                </a:solidFill>
                <a:latin typeface="Arial"/>
              </a:rPr>
              <a:t> </a:t>
            </a:r>
            <a:r>
              <a:rPr b="1" i="1" lang="it-IT" sz="2400" spc="-1" strike="noStrike">
                <a:solidFill>
                  <a:srgbClr val="bd0923"/>
                </a:solidFill>
                <a:latin typeface="Arial"/>
                <a:ea typeface="Arial"/>
              </a:rPr>
              <a:t>€</a:t>
            </a:r>
            <a:r>
              <a:rPr b="1" i="1" lang="it-IT" sz="2400" spc="-1" strike="noStrike">
                <a:solidFill>
                  <a:srgbClr val="000099"/>
                </a:solidFill>
                <a:latin typeface="Arial"/>
                <a:ea typeface="Arial"/>
              </a:rPr>
              <a:t>   </a:t>
            </a:r>
            <a:r>
              <a:rPr b="1" i="1" lang="it-IT" sz="2400" spc="-1" strike="noStrike">
                <a:solidFill>
                  <a:srgbClr val="bd0923"/>
                </a:solidFill>
                <a:latin typeface="Arial"/>
              </a:rPr>
              <a:t>EUR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1066680" y="106668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BONIFICI 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GIROCONT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BANCAR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380880" y="3733920"/>
            <a:ext cx="1752840" cy="99036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DENAR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CONTANTE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2" name="Oval 28"/>
          <p:cNvSpPr/>
          <p:nvPr/>
        </p:nvSpPr>
        <p:spPr>
          <a:xfrm>
            <a:off x="380880" y="4876920"/>
            <a:ext cx="3657600" cy="160020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DISPOSIZIONI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ELETTRONICH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D’INCASS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(RI.BA. RICEVUTE BANCARIE</a:t>
            </a: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3" name="Oval 29"/>
          <p:cNvSpPr/>
          <p:nvPr/>
        </p:nvSpPr>
        <p:spPr>
          <a:xfrm>
            <a:off x="3809880" y="914400"/>
            <a:ext cx="3200400" cy="14479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ASSEGNI BANCARI,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ASSEGNI CIRCOLARI,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ASSEGNI POSTAL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4" name="Oval 30"/>
          <p:cNvSpPr/>
          <p:nvPr/>
        </p:nvSpPr>
        <p:spPr>
          <a:xfrm>
            <a:off x="380880" y="2438280"/>
            <a:ext cx="1752840" cy="9907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CAMBIAL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5" name="Oval 31"/>
          <p:cNvSpPr/>
          <p:nvPr/>
        </p:nvSpPr>
        <p:spPr>
          <a:xfrm>
            <a:off x="4648320" y="5410080"/>
            <a:ext cx="2286000" cy="99072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CONTRASSEGN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286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287" name="Picture 32" descr=""/>
          <p:cNvPicPr/>
          <p:nvPr/>
        </p:nvPicPr>
        <p:blipFill>
          <a:blip r:embed="rId2"/>
          <a:stretch/>
        </p:blipFill>
        <p:spPr>
          <a:xfrm>
            <a:off x="2286000" y="2438280"/>
            <a:ext cx="36766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8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5" dur="8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6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8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8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8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8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8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152280" y="914400"/>
            <a:ext cx="8740800" cy="3794040"/>
          </a:xfrm>
          <a:prstGeom prst="ellipse">
            <a:avLst/>
          </a:prstGeom>
          <a:gradFill rotWithShape="0">
            <a:gsLst>
              <a:gs pos="0">
                <a:srgbClr val="ccffff">
                  <a:alpha val="59215"/>
                </a:srgbClr>
              </a:gs>
              <a:gs pos="100000">
                <a:srgbClr val="ccffcc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243828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PRODUTTORI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Aziende industriali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e aziende agricol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14600" y="2438280"/>
            <a:ext cx="934920" cy="838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e8e6fe"/>
                </a:solidFill>
                <a:latin typeface="Arial"/>
              </a:rPr>
              <a:t>BEN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5638680" y="2438280"/>
            <a:ext cx="935280" cy="83844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e8e6fe"/>
                </a:solidFill>
                <a:latin typeface="Arial"/>
              </a:rPr>
              <a:t>BEN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480000" y="2514600"/>
            <a:ext cx="24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CONSUMATORI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Arial"/>
              </a:rPr>
              <a:t>FINALI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04920" y="19051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MERCATI DI ACQUISIZIONE</a:t>
            </a: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867280" y="1981080"/>
            <a:ext cx="266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MERCATI DI SBOCC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895480" y="1219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DISTRIBUZIONE</a:t>
            </a:r>
            <a:endParaRPr b="0" lang="en-US" sz="2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853920" y="4876920"/>
            <a:ext cx="935280" cy="1079280"/>
          </a:xfrm>
          <a:custGeom>
            <a:avLst/>
            <a:gdLst>
              <a:gd name="textAreaLeft" fmla="*/ 125280 w 935280"/>
              <a:gd name="textAreaRight" fmla="*/ 810000 w 93528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7334280" y="4876920"/>
            <a:ext cx="934920" cy="1079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905120" y="4876920"/>
            <a:ext cx="5333760" cy="1532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cc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LE AZIENDE COMMERCIALI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si occupano del trasferimento nello spazio e nel tempo delle merci prodott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da aziende industriali e aziende agricole,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senza effettuare su ess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trasformazioni materiali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0" y="320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</a:rPr>
              <a:t>LE AZIENDE COMMERCIALI</a:t>
            </a:r>
            <a:endParaRPr b="0" lang="en-US" sz="32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0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3581280" y="2209680"/>
            <a:ext cx="198144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AZIEND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OMMERCIAL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2286000" y="3657600"/>
            <a:ext cx="45720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e8e6fe"/>
                </a:solidFill>
                <a:latin typeface="Arial"/>
              </a:rPr>
              <a:t>PRODUZIONE INDIRETTA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8080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E AZIENDE COMMERCIALI</a:t>
            </a:r>
            <a:r>
              <a:rPr b="1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4572000" y="990720"/>
            <a:ext cx="4343400" cy="1218960"/>
          </a:xfrm>
          <a:prstGeom prst="flowChartProcess">
            <a:avLst/>
          </a:prstGeom>
          <a:gradFill rotWithShape="0">
            <a:gsLst>
              <a:gs pos="0">
                <a:srgbClr val="ccffff"/>
              </a:gs>
              <a:gs pos="50000">
                <a:srgbClr val="99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INTERMEDIAZION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ADATTAMENT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ORIENTAMENTO ALLA PRODUZION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FINANZIAMEN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5" name="Freccia a destra 10"/>
          <p:cNvSpPr/>
          <p:nvPr/>
        </p:nvSpPr>
        <p:spPr>
          <a:xfrm>
            <a:off x="2133720" y="914400"/>
            <a:ext cx="2438280" cy="1219320"/>
          </a:xfrm>
          <a:prstGeom prst="rightArrow">
            <a:avLst>
              <a:gd name="adj1" fmla="val 66324"/>
              <a:gd name="adj2" fmla="val 37115"/>
            </a:avLst>
          </a:prstGeom>
          <a:solidFill>
            <a:srgbClr val="fdea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990033"/>
                </a:solidFill>
                <a:latin typeface="Arial"/>
              </a:rPr>
              <a:t>SVOLGONO LE SEGUENTI FUNZION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66" name="AutoShape 6"/>
          <p:cNvSpPr/>
          <p:nvPr/>
        </p:nvSpPr>
        <p:spPr>
          <a:xfrm>
            <a:off x="380880" y="914400"/>
            <a:ext cx="1828800" cy="1295280"/>
          </a:xfrm>
          <a:prstGeom prst="flowChartProcess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LE AZIENDE 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COMMERCIALI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grpSp>
        <p:nvGrpSpPr>
          <p:cNvPr id="67" name="Organization Chart 18"/>
          <p:cNvGrpSpPr/>
          <p:nvPr/>
        </p:nvGrpSpPr>
        <p:grpSpPr>
          <a:xfrm>
            <a:off x="231840" y="2362320"/>
            <a:ext cx="8376480" cy="3711960"/>
            <a:chOff x="231840" y="2362320"/>
            <a:chExt cx="8376480" cy="3711960"/>
          </a:xfrm>
        </p:grpSpPr>
        <p:cxnSp>
          <p:nvCxnSpPr>
            <p:cNvPr id="68" name="_s44062"/>
            <p:cNvCxnSpPr>
              <a:stCxn id="69" idx="0"/>
              <a:endCxn id="70" idx="2"/>
            </p:cNvCxnSpPr>
            <p:nvPr/>
          </p:nvCxnSpPr>
          <p:spPr>
            <a:xfrm flipV="1" rot="16200000">
              <a:off x="6786720" y="3760200"/>
              <a:ext cx="233280" cy="215640"/>
            </a:xfrm>
            <a:prstGeom prst="bentConnector3">
              <a:avLst>
                <a:gd name="adj1" fmla="val 48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44052"/>
            <p:cNvCxnSpPr/>
            <p:nvPr/>
          </p:nvCxnSpPr>
          <p:spPr>
            <a:xfrm flipV="1" rot="16200000">
              <a:off x="2876400" y="3223080"/>
              <a:ext cx="374400" cy="1294560"/>
            </a:xfrm>
            <a:prstGeom prst="bentConnector3">
              <a:avLst>
                <a:gd name="adj1" fmla="val 32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4053"/>
            <p:cNvCxnSpPr/>
            <p:nvPr/>
          </p:nvCxnSpPr>
          <p:spPr>
            <a:xfrm flipH="1" flipV="1" rot="5400000">
              <a:off x="1739880" y="3370320"/>
              <a:ext cx="301680" cy="1052280"/>
            </a:xfrm>
            <a:prstGeom prst="bentConnector3">
              <a:avLst>
                <a:gd name="adj1" fmla="val 362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44054"/>
            <p:cNvCxnSpPr/>
            <p:nvPr/>
          </p:nvCxnSpPr>
          <p:spPr>
            <a:xfrm flipV="1" rot="16200000">
              <a:off x="5728680" y="1652040"/>
              <a:ext cx="254520" cy="2679480"/>
            </a:xfrm>
            <a:prstGeom prst="bentConnector3">
              <a:avLst>
                <a:gd name="adj1" fmla="val 371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4055"/>
            <p:cNvCxnSpPr/>
            <p:nvPr/>
          </p:nvCxnSpPr>
          <p:spPr>
            <a:xfrm flipH="1" flipV="1" rot="5400000">
              <a:off x="3022920" y="1653840"/>
              <a:ext cx="684720" cy="2225520"/>
            </a:xfrm>
            <a:prstGeom prst="bentConnector3">
              <a:avLst>
                <a:gd name="adj1" fmla="val 1362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44056"/>
            <p:cNvSpPr/>
            <p:nvPr/>
          </p:nvSpPr>
          <p:spPr>
            <a:xfrm>
              <a:off x="2495520" y="2362320"/>
              <a:ext cx="3718080" cy="50292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11056b"/>
                  </a:solidFill>
                  <a:latin typeface="Arial"/>
                </a:rPr>
                <a:t>AZIENDE  COMMERCIALI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76" name="_s44057"/>
            <p:cNvSpPr/>
            <p:nvPr/>
          </p:nvSpPr>
          <p:spPr>
            <a:xfrm>
              <a:off x="234360" y="3119400"/>
              <a:ext cx="4285080" cy="632520"/>
            </a:xfrm>
            <a:prstGeom prst="roundRect">
              <a:avLst>
                <a:gd name="adj" fmla="val 18565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2009bc"/>
                  </a:solidFill>
                  <a:latin typeface="Arial"/>
                </a:rPr>
                <a:t>PER CONTO PROPRIO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70" name="_s44058"/>
            <p:cNvSpPr/>
            <p:nvPr/>
          </p:nvSpPr>
          <p:spPr>
            <a:xfrm>
              <a:off x="5002200" y="3119400"/>
              <a:ext cx="3588120" cy="6325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2009bc"/>
                  </a:solidFill>
                  <a:latin typeface="Arial"/>
                </a:rPr>
                <a:t>PER CONTO ALTRUI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77" name="_s44059"/>
            <p:cNvSpPr/>
            <p:nvPr/>
          </p:nvSpPr>
          <p:spPr>
            <a:xfrm>
              <a:off x="231840" y="4036680"/>
              <a:ext cx="2339280" cy="20271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2009bc"/>
                  </a:solidFill>
                  <a:latin typeface="Arial"/>
                </a:rPr>
                <a:t>ALL’INGROSSO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Acquistano merc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direttamente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dai produttor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 le rivendono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n consistenti quantità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ad aziende industrial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78" name="_s44060"/>
            <p:cNvSpPr/>
            <p:nvPr/>
          </p:nvSpPr>
          <p:spPr>
            <a:xfrm>
              <a:off x="2747160" y="4036680"/>
              <a:ext cx="2345760" cy="20376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200" spc="-1" strike="noStrike">
                  <a:solidFill>
                    <a:srgbClr val="2009bc"/>
                  </a:solidFill>
                  <a:latin typeface="Arial"/>
                </a:rPr>
                <a:t>AL DETTAGLIO</a:t>
              </a:r>
              <a:endParaRPr b="0" lang="en-US" sz="22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Acquistano merc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dai grossisti o 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dai produttor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e le rivendono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in piccole quantità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700" spc="-1" strike="noStrike">
                  <a:solidFill>
                    <a:srgbClr val="000000"/>
                  </a:solidFill>
                  <a:latin typeface="Arial"/>
                </a:rPr>
                <a:t>ai consumatori finali</a:t>
              </a:r>
              <a:endParaRPr b="0" lang="en-US" sz="17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69" name="_s44061"/>
            <p:cNvSpPr/>
            <p:nvPr/>
          </p:nvSpPr>
          <p:spPr>
            <a:xfrm>
              <a:off x="5411160" y="3984840"/>
              <a:ext cx="3197160" cy="173196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favoriscono 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la conclusione degli affari 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per conto di altre aziende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2009bc"/>
                  </a:solidFill>
                  <a:latin typeface="Arial"/>
                </a:rPr>
                <a:t>AUSILIARI DEL COMMERCIO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(come i rappresentanti 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Arial"/>
                </a:rPr>
                <a:t>e gli agenti di commercio)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</p:txBody>
        </p:sp>
      </p:grpSp>
      <p:sp>
        <p:nvSpPr>
          <p:cNvPr id="79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28160"/>
            <a:ext cx="91440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ASPETTI GIURIDICI DELLA COMPRAVEND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4"/>
          <p:cNvSpPr/>
          <p:nvPr/>
        </p:nvSpPr>
        <p:spPr>
          <a:xfrm>
            <a:off x="609480" y="914400"/>
            <a:ext cx="8229600" cy="1143000"/>
          </a:xfrm>
          <a:prstGeom prst="verticalScrol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cc0000"/>
                </a:solidFill>
                <a:latin typeface="Arial"/>
              </a:rPr>
              <a:t>LA COMPRAVENDITA</a:t>
            </a: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 È IL CONTRATTO CON CU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UN SOGGETTO DETTO </a:t>
            </a:r>
            <a:r>
              <a:rPr b="1" i="1" lang="it-IT" sz="1600" spc="-1" strike="noStrike">
                <a:solidFill>
                  <a:srgbClr val="cc0000"/>
                </a:solidFill>
                <a:latin typeface="Arial"/>
              </a:rPr>
              <a:t>VENDITORE </a:t>
            </a: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 TRASFERISCE LA PROPRIETÀ DI UN BEN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i="1" lang="it-IT" sz="1600" spc="-1" strike="noStrike">
                <a:solidFill>
                  <a:srgbClr val="2009bc"/>
                </a:solidFill>
                <a:latin typeface="Arial"/>
              </a:rPr>
              <a:t>AD UN ALTRO SOGGETTO DETTO </a:t>
            </a:r>
            <a:r>
              <a:rPr b="1" i="1" lang="it-IT" sz="1600" spc="-1" strike="noStrike">
                <a:solidFill>
                  <a:srgbClr val="cc0000"/>
                </a:solidFill>
                <a:latin typeface="Arial"/>
              </a:rPr>
              <a:t>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80880" y="2438280"/>
            <a:ext cx="243864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LA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OMPRAVENDI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5257800" y="2514600"/>
            <a:ext cx="3657600" cy="11430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BILATERAL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poiché richiede la presenz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di due contraen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VENDITORE e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4" name="Freccia a destra 16"/>
          <p:cNvSpPr/>
          <p:nvPr/>
        </p:nvSpPr>
        <p:spPr>
          <a:xfrm>
            <a:off x="2971800" y="2590920"/>
            <a:ext cx="2133720" cy="761760"/>
          </a:xfrm>
          <a:prstGeom prst="rightArrow">
            <a:avLst>
              <a:gd name="adj1" fmla="val 62694"/>
              <a:gd name="adj2" fmla="val 62245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un contrat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5181480" y="3809880"/>
            <a:ext cx="3733920" cy="11430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CONSENSUALE 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in quanto si perfeziona nel moment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in cui le parti raggiungono l’accord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su tutti gli elementi del contratt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6" name="AutoShape 9"/>
          <p:cNvSpPr/>
          <p:nvPr/>
        </p:nvSpPr>
        <p:spPr>
          <a:xfrm>
            <a:off x="5257800" y="5105520"/>
            <a:ext cx="3657600" cy="121896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A TITOLO ONEROSO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perché ciascun contraente sopport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un “sacrificio”  in cambi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di un “vantaggio” economic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7" name="Freccia a destra 16"/>
          <p:cNvSpPr/>
          <p:nvPr/>
        </p:nvSpPr>
        <p:spPr>
          <a:xfrm>
            <a:off x="2971800" y="3886200"/>
            <a:ext cx="2133720" cy="762120"/>
          </a:xfrm>
          <a:prstGeom prst="rightArrow">
            <a:avLst>
              <a:gd name="adj1" fmla="val 62694"/>
              <a:gd name="adj2" fmla="val 62216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un contrat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88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89" name="Picture 20" descr=""/>
          <p:cNvPicPr/>
          <p:nvPr/>
        </p:nvPicPr>
        <p:blipFill>
          <a:blip r:embed="rId1"/>
          <a:stretch/>
        </p:blipFill>
        <p:spPr>
          <a:xfrm>
            <a:off x="0" y="3962520"/>
            <a:ext cx="4376880" cy="2895480"/>
          </a:xfrm>
          <a:prstGeom prst="rect">
            <a:avLst/>
          </a:prstGeom>
          <a:ln w="0">
            <a:noFill/>
          </a:ln>
        </p:spPr>
      </p:pic>
      <p:sp>
        <p:nvSpPr>
          <p:cNvPr id="90" name="Freccia a destra 16"/>
          <p:cNvSpPr/>
          <p:nvPr/>
        </p:nvSpPr>
        <p:spPr>
          <a:xfrm>
            <a:off x="2971800" y="5181480"/>
            <a:ext cx="2133720" cy="762120"/>
          </a:xfrm>
          <a:prstGeom prst="rightArrow">
            <a:avLst>
              <a:gd name="adj1" fmla="val 62694"/>
              <a:gd name="adj2" fmla="val 62216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un contratt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OBBLIGHI </a:t>
            </a:r>
            <a:br>
              <a:rPr sz="3200"/>
            </a:b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PER IL VENDITORE E IL COMPRA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62699"/>
                </a:solidFill>
                <a:latin typeface="Arial"/>
                <a:ea typeface="Arial"/>
              </a:rPr>
              <a:t>La stipulazione del contratto di compravendita fa sorg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62699"/>
                </a:solidFill>
                <a:latin typeface="Arial"/>
                <a:ea typeface="Arial"/>
              </a:rPr>
              <a:t>OBBLIGH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262699"/>
                </a:solidFill>
                <a:latin typeface="Arial"/>
                <a:ea typeface="Arial"/>
              </a:rPr>
              <a:t>PER I DUE CONTRAEN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23880" y="3200400"/>
            <a:ext cx="259092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NDITOR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257800" y="3200400"/>
            <a:ext cx="266688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RATOR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2895120" y="28954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888160" y="290844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33520" y="4114800"/>
            <a:ext cx="4038480" cy="20574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segnare la cosa vendut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l comprator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arantire il compratore dall’evizion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ossia dalla possibilità che un terz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ssa far valere diritti acquisi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n precedenza)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Garantire il compratore da vizi occul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876920" y="4114800"/>
            <a:ext cx="3733560" cy="1752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tirare la merce ogget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l contratto nel luogo prestabili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agare il prezzo nei mod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 nei tempi concorda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99" name="Freccia a destra 16"/>
          <p:cNvSpPr/>
          <p:nvPr/>
        </p:nvSpPr>
        <p:spPr>
          <a:xfrm rot="5400000">
            <a:off x="2629080" y="3619440"/>
            <a:ext cx="304560" cy="533520"/>
          </a:xfrm>
          <a:prstGeom prst="rightArrow">
            <a:avLst>
              <a:gd name="adj1" fmla="val 62694"/>
              <a:gd name="adj2" fmla="val 22222"/>
            </a:avLst>
          </a:prstGeom>
          <a:solidFill>
            <a:srgbClr val="99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00" name="Freccia a destra 16"/>
          <p:cNvSpPr/>
          <p:nvPr/>
        </p:nvSpPr>
        <p:spPr>
          <a:xfrm rot="5400000">
            <a:off x="6438960" y="3619440"/>
            <a:ext cx="304560" cy="533520"/>
          </a:xfrm>
          <a:prstGeom prst="rightArrow">
            <a:avLst>
              <a:gd name="adj1" fmla="val 62694"/>
              <a:gd name="adj2" fmla="val 22222"/>
            </a:avLst>
          </a:prstGeom>
          <a:solidFill>
            <a:srgbClr val="99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01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4582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</a:rPr>
              <a:t>IL CONTRATTO DI COMPRAVENDI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5181480" y="3200400"/>
            <a:ext cx="358164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2. STIPULAZIONE DEL CONTRA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104" name="Picture 7" descr="CONTRATTO"/>
          <p:cNvPicPr/>
          <p:nvPr/>
        </p:nvPicPr>
        <p:blipFill>
          <a:blip r:embed="rId1"/>
          <a:stretch/>
        </p:blipFill>
        <p:spPr>
          <a:xfrm>
            <a:off x="533520" y="1219320"/>
            <a:ext cx="4190760" cy="48276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8"/>
          <p:cNvSpPr/>
          <p:nvPr/>
        </p:nvSpPr>
        <p:spPr>
          <a:xfrm>
            <a:off x="533520" y="2590920"/>
            <a:ext cx="4190760" cy="2481120"/>
          </a:xfrm>
          <a:prstGeom prst="verticalScroll">
            <a:avLst>
              <a:gd name="adj" fmla="val 1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UN’OPERAZION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DI COMPRAVENDITA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SI SVOLGE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ATTRAVERSO 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TRE FASI PRINCIPALI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88080" y="2049480"/>
            <a:ext cx="2263680" cy="700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2009bc"/>
                </a:solidFill>
                <a:latin typeface="Arial"/>
                <a:ea typeface="Arial"/>
              </a:rPr>
              <a:t>1. TRATT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0"/>
          <p:cNvSpPr/>
          <p:nvPr/>
        </p:nvSpPr>
        <p:spPr>
          <a:xfrm>
            <a:off x="4114800" y="4648320"/>
            <a:ext cx="358128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009bc"/>
                </a:solidFill>
                <a:latin typeface="Arial"/>
              </a:rPr>
              <a:t>3. ESECUZIONE DEL CONTRATTO</a:t>
            </a: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08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E TRATT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imagesCAL9A42U"/>
          <p:cNvPicPr/>
          <p:nvPr/>
        </p:nvPicPr>
        <p:blipFill>
          <a:blip r:embed="rId1"/>
          <a:srcRect l="0" t="0" r="0" b="3676"/>
          <a:stretch/>
        </p:blipFill>
        <p:spPr>
          <a:xfrm>
            <a:off x="4876920" y="449568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4"/>
          <p:cNvSpPr/>
          <p:nvPr/>
        </p:nvSpPr>
        <p:spPr>
          <a:xfrm>
            <a:off x="609480" y="838080"/>
            <a:ext cx="8077320" cy="24386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2009bc"/>
                </a:solidFill>
                <a:latin typeface="Arial"/>
              </a:rPr>
              <a:t>NELLA FASE DELLE TRATTATIVE I POTENZIALI CONTRAENTI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cc0000"/>
                </a:solidFill>
                <a:latin typeface="Arial"/>
              </a:rPr>
              <a:t>VENDITORE E COMPRATORE 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2009bc"/>
                </a:solidFill>
                <a:latin typeface="Arial"/>
              </a:rPr>
              <a:t>ENTRANO IN CONTATTO SCAMBIANDOSI RECIPROCHE PROPOSTE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bd0923"/>
                </a:solidFill>
                <a:latin typeface="Arial"/>
              </a:rPr>
              <a:t>SE LA PROPOSTA INIZIALE VIENE ACCETTATA DALLA CONTROPARTE 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bd0923"/>
                </a:solidFill>
                <a:latin typeface="Arial"/>
              </a:rPr>
              <a:t>IL CONTRATTO E’ CONCLUSO;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700" spc="-1" strike="noStrike">
                <a:solidFill>
                  <a:srgbClr val="bd0923"/>
                </a:solidFill>
                <a:latin typeface="Arial"/>
              </a:rPr>
              <a:t>IN CASO CONTRARIO PROSEGUONO LE TRATTATIVE</a:t>
            </a:r>
            <a:endParaRPr b="0" lang="en-US" sz="1700" spc="-1" strike="noStrike">
              <a:solidFill>
                <a:srgbClr val="e8e6fe"/>
              </a:solidFill>
              <a:latin typeface="Arial"/>
            </a:endParaRPr>
          </a:p>
        </p:txBody>
      </p:sp>
      <p:pic>
        <p:nvPicPr>
          <p:cNvPr id="112" name="Picture 16" descr="untitled"/>
          <p:cNvPicPr/>
          <p:nvPr/>
        </p:nvPicPr>
        <p:blipFill>
          <a:blip r:embed="rId2"/>
          <a:srcRect l="0" t="0" r="0" b="7995"/>
          <a:stretch/>
        </p:blipFill>
        <p:spPr>
          <a:xfrm>
            <a:off x="457200" y="4495680"/>
            <a:ext cx="3809880" cy="1752840"/>
          </a:xfrm>
          <a:prstGeom prst="rect">
            <a:avLst/>
          </a:prstGeom>
          <a:ln w="0">
            <a:noFill/>
          </a:ln>
        </p:spPr>
      </p:pic>
      <p:grpSp>
        <p:nvGrpSpPr>
          <p:cNvPr id="113" name="Organization Chart 18"/>
          <p:cNvGrpSpPr/>
          <p:nvPr/>
        </p:nvGrpSpPr>
        <p:grpSpPr>
          <a:xfrm>
            <a:off x="457200" y="3200400"/>
            <a:ext cx="8227440" cy="1294920"/>
            <a:chOff x="457200" y="3200400"/>
            <a:chExt cx="8227440" cy="1294920"/>
          </a:xfrm>
        </p:grpSpPr>
        <p:cxnSp>
          <p:nvCxnSpPr>
            <p:cNvPr id="114" name="_s1028"/>
            <p:cNvCxnSpPr>
              <a:stCxn id="115" idx="0"/>
              <a:endCxn id="116" idx="2"/>
            </p:cNvCxnSpPr>
            <p:nvPr/>
          </p:nvCxnSpPr>
          <p:spPr>
            <a:xfrm flipV="1" rot="16200000">
              <a:off x="5547960" y="2739240"/>
              <a:ext cx="259560" cy="2216160"/>
            </a:xfrm>
            <a:prstGeom prst="bentConnector3">
              <a:avLst>
                <a:gd name="adj1" fmla="val 375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117" name="_s1029"/>
            <p:cNvCxnSpPr>
              <a:stCxn id="118" idx="0"/>
              <a:endCxn id="116" idx="2"/>
            </p:cNvCxnSpPr>
            <p:nvPr/>
          </p:nvCxnSpPr>
          <p:spPr>
            <a:xfrm flipH="1" flipV="1" rot="5400000">
              <a:off x="3333240" y="2739960"/>
              <a:ext cx="259560" cy="2215080"/>
            </a:xfrm>
            <a:prstGeom prst="bentConnector3">
              <a:avLst>
                <a:gd name="adj1" fmla="val 3750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116" name="_s1030"/>
            <p:cNvSpPr/>
            <p:nvPr/>
          </p:nvSpPr>
          <p:spPr>
            <a:xfrm>
              <a:off x="2671560" y="3200400"/>
              <a:ext cx="379728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2009bc"/>
              </a:solidFill>
              <a:miter/>
            </a:ln>
            <a:effectLst>
              <a:outerShdw dist="63504" dir="19383909" blurRad="0" rotWithShape="0">
                <a:srgbClr val="2009b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400" spc="-1" strike="noStrike">
                  <a:solidFill>
                    <a:srgbClr val="3333cc"/>
                  </a:solidFill>
                  <a:latin typeface="Arial"/>
                </a:rPr>
                <a:t>TRATTATIVE</a:t>
              </a:r>
              <a:endParaRPr b="0" lang="en-US" sz="24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118" name="_s1031"/>
            <p:cNvSpPr/>
            <p:nvPr/>
          </p:nvSpPr>
          <p:spPr>
            <a:xfrm>
              <a:off x="457200" y="3977280"/>
              <a:ext cx="3797280" cy="518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CONTRATTAZIONE </a:t>
              </a:r>
              <a:endParaRPr b="0" lang="en-US" sz="20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DI PRESENZA</a:t>
              </a:r>
              <a:r>
                <a:rPr b="1" lang="it-IT" sz="16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e8e6fe"/>
                </a:solidFill>
                <a:latin typeface="Arial"/>
              </a:endParaRPr>
            </a:p>
          </p:txBody>
        </p:sp>
        <p:sp>
          <p:nvSpPr>
            <p:cNvPr id="115" name="_s1032"/>
            <p:cNvSpPr/>
            <p:nvPr/>
          </p:nvSpPr>
          <p:spPr>
            <a:xfrm>
              <a:off x="4887360" y="3977280"/>
              <a:ext cx="3797280" cy="518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b2b2b2"/>
              </a:solidFill>
              <a:miter/>
            </a:ln>
            <a:effectLst>
              <a:outerShdw dist="63504" dir="19383909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CONTRATTAZIONE </a:t>
              </a:r>
              <a:endParaRPr b="0" lang="en-US" sz="2000" spc="-1" strike="noStrike">
                <a:solidFill>
                  <a:srgbClr val="e8e6fe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it-IT" sz="2000" spc="-1" strike="noStrike">
                  <a:solidFill>
                    <a:srgbClr val="3333cc"/>
                  </a:solidFill>
                  <a:latin typeface="Arial"/>
                </a:rPr>
                <a:t>A DISTANZA</a:t>
              </a:r>
              <a:endParaRPr b="0" lang="en-US" sz="2000" spc="-1" strike="noStrike">
                <a:solidFill>
                  <a:srgbClr val="e8e6fe"/>
                </a:solidFill>
                <a:latin typeface="Arial"/>
              </a:endParaRPr>
            </a:p>
          </p:txBody>
        </p:sp>
      </p:grpSp>
      <p:sp>
        <p:nvSpPr>
          <p:cNvPr id="119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8,9,3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A STIPULAZIONE DEL CONTRAT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compravendita"/>
          <p:cNvPicPr/>
          <p:nvPr/>
        </p:nvPicPr>
        <p:blipFill>
          <a:blip r:embed="rId1"/>
          <a:srcRect l="0" t="0" r="6661" b="10006"/>
          <a:stretch/>
        </p:blipFill>
        <p:spPr>
          <a:xfrm>
            <a:off x="304920" y="1219320"/>
            <a:ext cx="3674880" cy="23619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4"/>
          <p:cNvSpPr/>
          <p:nvPr/>
        </p:nvSpPr>
        <p:spPr>
          <a:xfrm>
            <a:off x="3809880" y="1219320"/>
            <a:ext cx="5029200" cy="2361960"/>
          </a:xfrm>
          <a:prstGeom prst="vertic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bd0923"/>
                </a:solidFill>
                <a:latin typeface="Arial"/>
              </a:rPr>
              <a:t>LA STIPULAZIONE DEL CONTRATT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SI HA NEL MOMENTO IN CUI CHI HA FATTO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LA PROPOSTA VIENE A CONOSCENZ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2009bc"/>
                </a:solidFill>
                <a:latin typeface="Arial"/>
              </a:rPr>
              <a:t>DELL’ACCETTAZIONE DELL’ALTRA PAR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b050"/>
                </a:solidFill>
                <a:latin typeface="Arial"/>
              </a:rPr>
              <a:t>LA LEGGE NON PREVED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b050"/>
                </a:solidFill>
                <a:latin typeface="Arial"/>
              </a:rPr>
              <a:t>UNA FORMA VINCOLAN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4419360"/>
            <a:ext cx="2133720" cy="1143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alibri"/>
              </a:rPr>
              <a:t>IL CONTRATTO PUÒ ESSERE STIPULATO C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alibri"/>
              </a:rPr>
              <a:t>FORME DIVER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4" name="AutoShape 7"/>
          <p:cNvCxnSpPr>
            <a:endCxn id="125" idx="2"/>
          </p:cNvCxnSpPr>
          <p:nvPr/>
        </p:nvCxnSpPr>
        <p:spPr>
          <a:xfrm flipV="1">
            <a:off x="2209320" y="4403520"/>
            <a:ext cx="83916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AutoShape 8"/>
          <p:cNvCxnSpPr>
            <a:endCxn id="127" idx="2"/>
          </p:cNvCxnSpPr>
          <p:nvPr/>
        </p:nvCxnSpPr>
        <p:spPr>
          <a:xfrm>
            <a:off x="2209320" y="5257800"/>
            <a:ext cx="839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Oval 10"/>
          <p:cNvSpPr/>
          <p:nvPr/>
        </p:nvSpPr>
        <p:spPr>
          <a:xfrm>
            <a:off x="3048120" y="3962520"/>
            <a:ext cx="5943600" cy="880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CONTRATTO VERBAL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Se concluso a voce, senza compilare documenti scritt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27" name="Oval 11"/>
          <p:cNvSpPr/>
          <p:nvPr/>
        </p:nvSpPr>
        <p:spPr>
          <a:xfrm>
            <a:off x="3048120" y="5029200"/>
            <a:ext cx="5943600" cy="12193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bd0923"/>
                </a:solidFill>
                <a:latin typeface="Arial"/>
              </a:rPr>
              <a:t>CONTRATTO SCRITTO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FORMALE 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(redatto e firmato in presenza dei contraenti)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NON FORMALE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 (i contraenti si accordano a distanz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</a:rPr>
              <a:t>mediante scambio di corrispondenza)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28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262699"/>
                </a:solidFill>
                <a:latin typeface="Arial"/>
                <a:ea typeface="Arial"/>
              </a:rPr>
              <a:t>L’ESECUZIONE DEL CONTRAT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14680" y="1047240"/>
            <a:ext cx="3390840" cy="1257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round/>
          </a:ln>
        </p:spPr>
        <p:txBody>
          <a:bodyPr lIns="90000" rIns="90000" tIns="46800" bIns="46800" anchor="t">
            <a:normAutofit fontScale="98000"/>
          </a:bodyPr>
          <a:p>
            <a:pPr marL="35604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bd0923"/>
                </a:solidFill>
                <a:latin typeface="Arial"/>
              </a:rPr>
              <a:t>GLI OBBLIGHI</a:t>
            </a:r>
            <a:r>
              <a:rPr b="1" lang="it-IT" sz="2000" spc="-1" strike="noStrike">
                <a:solidFill>
                  <a:srgbClr val="bd092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6040"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000" spc="-1" strike="noStrike">
                <a:solidFill>
                  <a:srgbClr val="11056b"/>
                </a:solidFill>
                <a:latin typeface="Arial"/>
              </a:rPr>
              <a:t>RISULTANTI DAL CONTRATTO CHE HANNO STIPUL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imagesCAFLVTXH"/>
          <p:cNvPicPr/>
          <p:nvPr/>
        </p:nvPicPr>
        <p:blipFill>
          <a:blip r:embed="rId1"/>
          <a:stretch/>
        </p:blipFill>
        <p:spPr>
          <a:xfrm>
            <a:off x="0" y="4603680"/>
            <a:ext cx="3200400" cy="22543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5791320" y="2590920"/>
            <a:ext cx="3047760" cy="1676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I CONTRATTI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FORMATI E TRASMESS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CON MEZZI ELETTRONIC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HANNO LO STESSO VALORE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DEI CONTRATTI CARTACEI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3" name="Freccia a destra 10"/>
          <p:cNvSpPr/>
          <p:nvPr/>
        </p:nvSpPr>
        <p:spPr>
          <a:xfrm>
            <a:off x="2133720" y="2438280"/>
            <a:ext cx="3581280" cy="3505320"/>
          </a:xfrm>
          <a:prstGeom prst="rightArrow">
            <a:avLst>
              <a:gd name="adj1" fmla="val 66324"/>
              <a:gd name="adj2" fmla="val 18962"/>
            </a:avLst>
          </a:prstGeom>
          <a:solidFill>
            <a:srgbClr val="cc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11056b"/>
                </a:solidFill>
                <a:latin typeface="Arial"/>
              </a:rPr>
              <a:t>Molti contratti vengono stipulati a seguito dello scambio di documenti commerciali per via elettronica (preventivi, ordini ecc.) </a:t>
            </a:r>
            <a:r>
              <a:rPr b="1" i="1" lang="it-IT" sz="1800" spc="-1" strike="noStrike">
                <a:solidFill>
                  <a:srgbClr val="11056b"/>
                </a:solidFill>
                <a:latin typeface="Arial"/>
              </a:rPr>
              <a:t>tramite reti telematiche che collegano aziende diverse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4" name="Oval 12"/>
          <p:cNvSpPr/>
          <p:nvPr/>
        </p:nvSpPr>
        <p:spPr>
          <a:xfrm>
            <a:off x="5562720" y="4343400"/>
            <a:ext cx="3352680" cy="1523880"/>
          </a:xfrm>
          <a:prstGeom prst="ellipse">
            <a:avLst/>
          </a:prstGeom>
          <a:gradFill rotWithShape="0">
            <a:gsLst>
              <a:gs pos="0">
                <a:srgbClr val="e8e6fe"/>
              </a:gs>
              <a:gs pos="50000">
                <a:srgbClr val="b2b2b2"/>
              </a:gs>
              <a:gs pos="100000">
                <a:srgbClr val="e8e6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AUTENTICITA’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E RISERVATEZZ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SONO GARANTITI DALLA 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FIRMA ELETTRONICA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11056b"/>
                </a:solidFill>
                <a:latin typeface="Arial"/>
              </a:rPr>
              <a:t>DEL MITTENTE</a:t>
            </a: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5" name="Pagina iniziale 11">
            <a:hlinkClick r:id="" action="ppaction://hlinkshowjump?jump=firs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609480" y="1066680"/>
            <a:ext cx="2667240" cy="6098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NDITOR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609480" y="1752480"/>
            <a:ext cx="2667240" cy="6098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PRATORE</a:t>
            </a:r>
            <a:endParaRPr b="0" lang="en-US" sz="2400" spc="-1" strike="noStrike">
              <a:solidFill>
                <a:srgbClr val="e8e6fe"/>
              </a:solidFill>
              <a:latin typeface="Arial"/>
            </a:endParaRPr>
          </a:p>
        </p:txBody>
      </p:sp>
      <p:sp>
        <p:nvSpPr>
          <p:cNvPr id="138" name="Freccia a destra 16"/>
          <p:cNvSpPr/>
          <p:nvPr/>
        </p:nvSpPr>
        <p:spPr>
          <a:xfrm>
            <a:off x="3352680" y="1116000"/>
            <a:ext cx="1828800" cy="1219320"/>
          </a:xfrm>
          <a:prstGeom prst="rightArrow">
            <a:avLst>
              <a:gd name="adj1" fmla="val 62694"/>
              <a:gd name="adj2" fmla="val 33330"/>
            </a:avLst>
          </a:prstGeom>
          <a:solidFill>
            <a:srgbClr val="cc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SEGUONO</a:t>
            </a: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e8e6fe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15:26Z</dcterms:created>
  <dc:creator>gilda ricciardi</dc:creator>
  <dc:description/>
  <dc:language>en-US</dc:language>
  <cp:lastModifiedBy>Deborah</cp:lastModifiedBy>
  <cp:lastPrinted>2009-04-22T19:24:48Z</cp:lastPrinted>
  <dcterms:modified xsi:type="dcterms:W3CDTF">2011-05-31T12:50:53Z</dcterms:modified>
  <cp:revision>402</cp:revision>
  <dc:subject/>
  <dc:title>il contratto di compravendita</dc:title>
</cp:coreProperties>
</file>